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246-B075-40F6-97C0-4D003DC5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2AB-2C79-47E5-8284-A42E32FE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D1A4-77E0-4669-8887-583611C2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34B-3808-416C-983A-65361FBE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1BC5-FC90-4DCF-998B-2E21AF19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0BD4-2720-4CF6-9D62-6125BD69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AE21-5537-4461-8967-B068DB47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747-1628-4E13-BC52-8552072E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4EE-EF02-4282-950D-3A09DA67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26E5-6B64-4ECB-8D90-0DDD1D6E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CE3B-FFBC-41F5-8A96-9134A3B8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6EB4-80AA-432A-B2DF-441DCD1F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EA6F-DB07-4E08-9E9A-A4A1DACEA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pulated Settlement Agree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ing Clai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e claim is retrieved, click on the link “Associate Multiple DOI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50594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609480" y="4114800"/>
            <a:ext cx="1676520" cy="3808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check the box for those claims in which you want to file the Stipulation and click “Associat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5334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7696080" y="4419720"/>
            <a:ext cx="685800" cy="91440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necessary data and upload the document.  It will be placed in all the claim files that are associ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3:54:10Z</dcterms:created>
  <dc:creator>Damaris Jones</dc:creator>
  <dc:description/>
  <dc:language>en-US</dc:language>
  <cp:lastModifiedBy>Georgia State Board of Workers' Compensation</cp:lastModifiedBy>
  <dcterms:modified xsi:type="dcterms:W3CDTF">2009-11-10T13:57:40Z</dcterms:modified>
  <cp:revision>7</cp:revision>
  <dc:subject/>
  <dc:title>Stipulation/Settlement</dc:title>
</cp:coreProperties>
</file>